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E3F-2D48-4F0A-9190-18EBB8F2CEF6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1C72-E3BA-4AA9-8A95-FD003AF2FE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34A-27CC-45B9-A4B5-ECF5DFB77BF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6618-E47E-4892-9B33-118E8785A80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228-644A-48BE-8F64-BBB3B4E9EB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1E8-C516-4492-BC3C-369448D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EC0-D13A-4728-B8D5-FF91596D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23A-DCBA-4F7C-BA94-25353E75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69A-C32F-4A58-904A-6353DDD5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E07D-3244-4D7D-9A41-6FBEE413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023-C44F-41B1-9B77-5CDA7A0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8EA-2A51-4838-9D8F-D25C4055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285-F917-4317-842F-06428C4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9F2F-7FC8-4A66-B6AD-406B01EE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26FA-B3E7-419D-96B0-B2886A2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6A4-05F5-4B0F-87C0-D543E4F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6A3-1611-490C-8224-8B6D1F6D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0D1-B3C1-4909-B55F-B13ABE4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B3C6-210F-4B42-B2E6-2C4E647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E01-8772-4656-A052-77548FFD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1678-BCA6-4D3C-85A9-9FE6E1F2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3E0-72AC-4EB9-8CE5-1B75D98B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96C-6B30-43CB-876F-36FD496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203-FD87-4872-90DF-8D22F66F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BE1-D32E-4B12-8971-076FF0ED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8E5-153A-4136-967B-6965ADF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847-37B3-4337-B692-C7E8931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932-883B-4778-9A0D-46B1135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4B1-5921-42A1-A7E7-D8369AF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DD7B-448A-4DF5-B813-2819637E79D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EE7-CD8C-4833-BD65-EF20E2D5F6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QCA. BIOLÓGICA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42876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SIG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Rectángulo"/>
          <p:cNvSpPr/>
          <p:nvPr/>
        </p:nvSpPr>
        <p:spPr>
          <a:xfrm>
            <a:off x="428760" y="2571840"/>
            <a:ext cx="80722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Glucogenolisis y Glucogenogénesis. Regulación. Control hormona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distintos estados nutr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429000" y="1785960"/>
            <a:ext cx="3714840" cy="1714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73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83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QCA. BIOLÓGICA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42876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SIG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6 Rectángulo"/>
          <p:cNvSpPr/>
          <p:nvPr/>
        </p:nvSpPr>
        <p:spPr>
          <a:xfrm>
            <a:off x="428760" y="2571840"/>
            <a:ext cx="8072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 Glucogenolisis y Glucogenogénesis. Regulación. Control hormonal </a:t>
            </a: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en distintos estados nutriciona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32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860120" y="27936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75616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202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209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61340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227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1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 (100-400 A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2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15 Conector recto de flecha"/>
          <p:cNvCxnSpPr>
            <a:stCxn id="2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4 CuadroTexto"/>
          <p:cNvSpPr/>
          <p:nvPr/>
        </p:nvSpPr>
        <p:spPr>
          <a:xfrm>
            <a:off x="428760" y="1357200"/>
            <a:ext cx="7858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6 CuadroTexto"/>
          <p:cNvSpPr/>
          <p:nvPr/>
        </p:nvSpPr>
        <p:spPr>
          <a:xfrm>
            <a:off x="714240" y="298620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como nucleótid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cosa-1-P 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 Rectángulo"/>
          <p:cNvSpPr/>
          <p:nvPr/>
        </p:nvSpPr>
        <p:spPr>
          <a:xfrm>
            <a:off x="1214280" y="5270400"/>
            <a:ext cx="457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1 CuadroTexto"/>
          <p:cNvSpPr/>
          <p:nvPr/>
        </p:nvSpPr>
        <p:spPr>
          <a:xfrm>
            <a:off x="2296080" y="71424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 CuadroTexto"/>
          <p:cNvSpPr/>
          <p:nvPr/>
        </p:nvSpPr>
        <p:spPr>
          <a:xfrm>
            <a:off x="0" y="1285920"/>
            <a:ext cx="89298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85840" y="242892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2928960" y="385776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214200" y="857160"/>
            <a:ext cx="842976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IS LELOIR (1906-1987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280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287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289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Picture 2" descr=""/>
          <p:cNvPicPr/>
          <p:nvPr/>
        </p:nvPicPr>
        <p:blipFill>
          <a:blip r:embed="rId4"/>
          <a:stretch/>
        </p:blipFill>
        <p:spPr>
          <a:xfrm>
            <a:off x="7412040" y="1500120"/>
            <a:ext cx="173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247680" y="190440"/>
            <a:ext cx="6681600" cy="66675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57400" y="4643280"/>
            <a:ext cx="5019480" cy="70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53735"/>
                </a:solidFill>
                <a:latin typeface="Arial"/>
                <a:ea typeface="Arial"/>
              </a:rPr>
              <a:t>Etapa 3)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ON DE UDP-Gluc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101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107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20"/>
          <p:cNvSpPr/>
          <p:nvPr/>
        </p:nvSpPr>
        <p:spPr>
          <a:xfrm rot="5400000">
            <a:off x="2079720" y="1849320"/>
            <a:ext cx="2555640" cy="457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2876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357120" y="164304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Glucosa + 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214720" y="407196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a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22860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322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323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324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6286680" y="328608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357120" y="1571760"/>
            <a:ext cx="83520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sobre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345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c0504d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50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55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8"/>
          <p:cNvSpPr/>
          <p:nvPr/>
        </p:nvSpPr>
        <p:spPr>
          <a:xfrm>
            <a:off x="-3429000" y="3214800"/>
            <a:ext cx="42148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61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64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26 Rectángulo"/>
          <p:cNvSpPr/>
          <p:nvPr/>
        </p:nvSpPr>
        <p:spPr>
          <a:xfrm>
            <a:off x="434520" y="2571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de la    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c0504d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74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5 CuadroTexto"/>
          <p:cNvSpPr/>
          <p:nvPr/>
        </p:nvSpPr>
        <p:spPr>
          <a:xfrm>
            <a:off x="5661360" y="871560"/>
            <a:ext cx="346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Síntesis de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8 Rectángulo redondeado"/>
          <p:cNvSpPr/>
          <p:nvPr/>
        </p:nvSpPr>
        <p:spPr>
          <a:xfrm>
            <a:off x="37148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NTETIZAR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3 CuadroTexto"/>
          <p:cNvSpPr/>
          <p:nvPr/>
        </p:nvSpPr>
        <p:spPr>
          <a:xfrm>
            <a:off x="251280" y="1071720"/>
            <a:ext cx="797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alfa- 1,6 glicosid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AMILO-</a:t>
            </a:r>
            <a:r>
              <a:rPr b="1" i="1" lang="es-ES_tradnl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 (1,6) GLUCOSIDASA (Enz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714760" y="55720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 rot="954600">
            <a:off x="3162960" y="607680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402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06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9 Rectángulo redondeado"/>
          <p:cNvSpPr/>
          <p:nvPr/>
        </p:nvSpPr>
        <p:spPr>
          <a:xfrm>
            <a:off x="3000240" y="214200"/>
            <a:ext cx="15717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2 Rectángulo"/>
          <p:cNvSpPr/>
          <p:nvPr/>
        </p:nvSpPr>
        <p:spPr>
          <a:xfrm>
            <a:off x="6215040" y="3643200"/>
            <a:ext cx="45720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133d6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f133d6"/>
                </a:solidFill>
                <a:latin typeface="Calibri"/>
              </a:rPr>
              <a:t> fosfatasa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ALOSTERICA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MP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b)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HORMONAL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)INSU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3 CuadroTexto"/>
          <p:cNvSpPr/>
          <p:nvPr/>
        </p:nvSpPr>
        <p:spPr>
          <a:xfrm>
            <a:off x="261000" y="1071720"/>
            <a:ext cx="8594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Recordem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INSULINA 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s una hormona HIPOGLUCEMI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isminuye la [Glucosa] en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LUCAGÓN y ADRENALINA  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son 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HIPERGLUCEM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aumentan la [Glucosa] en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gulación de</a:t>
            </a:r>
            <a:br>
              <a:rPr sz="4400"/>
            </a:br>
            <a:r>
              <a:rPr b="0" i="1" lang="es-ES" sz="4400" spc="-1" strike="noStrike" u="sng">
                <a:solidFill>
                  <a:srgbClr val="c00000"/>
                </a:solidFill>
                <a:uFillTx/>
                <a:latin typeface="Calibri"/>
              </a:rPr>
              <a:t>Glucógeno fosfori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ac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uando está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</a:t>
            </a:r>
            <a:r>
              <a:rPr b="0" lang="es-ES" sz="3200" spc="-1" strike="noStrike">
                <a:solidFill>
                  <a:srgbClr val="1104bc"/>
                </a:solidFill>
                <a:latin typeface="Calibri"/>
              </a:rPr>
              <a:t>inac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uando está </a:t>
            </a:r>
            <a:r>
              <a:rPr b="0" lang="es-ES" sz="3200" spc="-1" strike="noStrike">
                <a:solidFill>
                  <a:srgbClr val="1104bc"/>
                </a:solidFill>
                <a:latin typeface="Calibri"/>
              </a:rPr>
              <a:t>des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4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5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6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poco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uy 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943920" y="2276640"/>
            <a:ext cx="6004440" cy="4173480"/>
            <a:chOff x="943920" y="2276640"/>
            <a:chExt cx="6004440" cy="4173480"/>
          </a:xfrm>
        </p:grpSpPr>
        <p:grpSp>
          <p:nvGrpSpPr>
            <p:cNvPr id="437" name="Group 4"/>
            <p:cNvGrpSpPr/>
            <p:nvPr/>
          </p:nvGrpSpPr>
          <p:grpSpPr>
            <a:xfrm>
              <a:off x="2497680" y="2276640"/>
              <a:ext cx="4450680" cy="4173480"/>
              <a:chOff x="2497680" y="2276640"/>
              <a:chExt cx="4450680" cy="4173480"/>
            </a:xfrm>
          </p:grpSpPr>
          <p:pic>
            <p:nvPicPr>
              <p:cNvPr id="438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6"/>
              <p:cNvSpPr/>
              <p:nvPr/>
            </p:nvSpPr>
            <p:spPr>
              <a:xfrm>
                <a:off x="2497680" y="4002120"/>
                <a:ext cx="84816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"/>
              <p:cNvSpPr/>
              <p:nvPr/>
            </p:nvSpPr>
            <p:spPr>
              <a:xfrm>
                <a:off x="5415120" y="3670200"/>
                <a:ext cx="6022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9"/>
              <p:cNvSpPr/>
              <p:nvPr/>
            </p:nvSpPr>
            <p:spPr>
              <a:xfrm>
                <a:off x="5406840" y="4505400"/>
                <a:ext cx="7016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0"/>
            <p:cNvGrpSpPr/>
            <p:nvPr/>
          </p:nvGrpSpPr>
          <p:grpSpPr>
            <a:xfrm>
              <a:off x="943920" y="3952800"/>
              <a:ext cx="1530000" cy="483120"/>
              <a:chOff x="943920" y="3952800"/>
              <a:chExt cx="1530000" cy="483120"/>
            </a:xfrm>
          </p:grpSpPr>
          <p:sp>
            <p:nvSpPr>
              <p:cNvPr id="444" name="Text Box 11"/>
              <p:cNvSpPr/>
              <p:nvPr/>
            </p:nvSpPr>
            <p:spPr>
              <a:xfrm>
                <a:off x="943920" y="412884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rc 18"/>
          <p:cNvSpPr/>
          <p:nvPr/>
        </p:nvSpPr>
        <p:spPr>
          <a:xfrm flipH="1">
            <a:off x="3564000" y="3646440"/>
            <a:ext cx="1094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8 Rectángulo"/>
          <p:cNvSpPr/>
          <p:nvPr/>
        </p:nvSpPr>
        <p:spPr>
          <a:xfrm>
            <a:off x="6858000" y="3000240"/>
            <a:ext cx="45720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8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sucede cuando BAJAN los niveles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glucosa sanguín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¿Qué sucede cuando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AUMENTAN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los niveles de glucosa sanguíne</a:t>
            </a: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2 Rectángulo"/>
          <p:cNvSpPr/>
          <p:nvPr/>
        </p:nvSpPr>
        <p:spPr>
          <a:xfrm>
            <a:off x="1028880" y="71280"/>
            <a:ext cx="6472080" cy="657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Hígado: Cuando bajan los niveles de glucosa sanguí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fosforilasa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Se activa la enzim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4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4 CuadroTexto"/>
          <p:cNvSpPr/>
          <p:nvPr/>
        </p:nvSpPr>
        <p:spPr>
          <a:xfrm>
            <a:off x="-1428840" y="285840"/>
            <a:ext cx="35719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7" name="13 Conector recto de flecha"/>
          <p:cNvCxnSpPr>
            <a:stCxn id="49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98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8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20 Rectángulo"/>
          <p:cNvSpPr/>
          <p:nvPr/>
        </p:nvSpPr>
        <p:spPr>
          <a:xfrm>
            <a:off x="5715000" y="149400"/>
            <a:ext cx="350028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Calibri"/>
              </a:rPr>
              <a:t>Hígado: Cuando bajan los niveles de glucosa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e libera GLUCAGÓN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8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8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17" name="13 Conector recto de flecha"/>
          <p:cNvCxnSpPr>
            <a:stCxn id="51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18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20 CuadroTexto"/>
          <p:cNvSpPr/>
          <p:nvPr/>
        </p:nvSpPr>
        <p:spPr>
          <a:xfrm>
            <a:off x="5572080" y="357120"/>
            <a:ext cx="35719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533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 5 Pág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571680" y="2142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uándo y dónde es activa la Gluconeogéne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CuadroTexto"/>
          <p:cNvSpPr/>
          <p:nvPr/>
        </p:nvSpPr>
        <p:spPr>
          <a:xfrm>
            <a:off x="571680" y="1357200"/>
            <a:ext cx="764352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algunos tejidos donde la glucosa es indispensable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Sistema Nervios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as células que carecen de mitocondrias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esta vía (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 ES EL CAMINO INVERSO A LA VÍA GLICOLÍT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IMPLICA OTRAS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45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46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48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5-09-24T14:50:51Z</dcterms:modified>
  <cp:revision>261</cp:revision>
  <dc:subject/>
  <dc:title>Diapositiva 1</dc:title>
</cp:coreProperties>
</file>